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922-C427-407F-A9BD-7F163158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B0C-59B5-4EF9-9DD6-5E4A8275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36C-DD49-4FB7-AD77-CEFD7D40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8A3-2BFD-45D8-9735-2A01FC00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FDD-9326-4E23-BCCF-3A2369FE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C2F-C8E3-4D17-9D81-6178795D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2FF-08DC-4DB4-9331-4B7A14D8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C91-F84F-4EDD-A083-D2D20E0D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952-116C-4DE2-A532-76313C05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EA9C-F118-4736-88A3-717B1D86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7D8-B956-4247-B2C8-0388A0F4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2DF-FBF3-4A67-94D3-3FB15994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D451-0026-432A-88BB-EE969E802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679" t="6561" r="9907" b="5746"/>
          <a:stretch/>
        </p:blipFill>
        <p:spPr>
          <a:xfrm>
            <a:off x="549360" y="468360"/>
            <a:ext cx="5400720" cy="77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4477" t="9407" r="3721" b="15174"/>
          <a:stretch/>
        </p:blipFill>
        <p:spPr>
          <a:xfrm>
            <a:off x="333360" y="684360"/>
            <a:ext cx="62197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4:43:09Z</dcterms:created>
  <dc:creator>Alain Gaudry</dc:creator>
  <dc:description/>
  <dc:language>en-US</dc:language>
  <cp:lastModifiedBy>Alain Gaudry</cp:lastModifiedBy>
  <dcterms:modified xsi:type="dcterms:W3CDTF">2006-04-03T14:45:04Z</dcterms:modified>
  <cp:revision>1</cp:revision>
  <dc:subject/>
  <dc:title>Diapositive 1</dc:title>
</cp:coreProperties>
</file>